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417B-AF42-4466-9F01-9BBD0F7CD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C8A-7D08-4DA4-94B6-0B175FECA96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1040" y="4328640"/>
            <a:ext cx="5483160" cy="451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D54-C88D-4861-B757-AFB9626E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AE3-67CF-4EA2-8DDA-694A8814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FFC-CF9D-4063-99A1-77BB2352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2FC-2BD4-4734-96FE-81A8F632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E56-C1FF-4F2E-8CF8-0D35224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383-BEF1-4514-A7B5-80A7AA7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3AA-3D42-4692-967C-CD7A44C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6CB-31E0-4817-AFDD-8E1E388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30F-2895-4B1F-B46C-B1E1A90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D34-FFA0-4614-9818-7764A206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E2D-3613-45FA-9F9F-D8A9DCD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F2D-D83E-4358-91AD-893D087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C04-DBB1-47A7-A166-31BA852B5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  <a:ea typeface="Arial"/>
              </a:rPr>
              <a:t>Инозитоли у функцији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  <a:ea typeface="Arial"/>
              </a:rPr>
              <a:t> расту и аутоимуности штитасте жлез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Циљна места за дејство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нски кан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з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порте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рсте рецеп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јонски кан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везани за Г проте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цептори везани за киназе и слични 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уклеарни рецеп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те за Г проте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денилат цик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сфолипаза 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сфолипаза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емећаји функције штитасте жлез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ер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отиреоидиз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озит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о-инозит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 хиро-инозит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одаци исхрани – штитаста жл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Б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нтотенска 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екови у обољењима штитасте жлез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кови за хипер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кови за хипо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357800" y="15001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427640" y="3068640"/>
            <a:ext cx="4232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ue to the dynamic interplay between education and practice, pharmacy education is also undergoing major reform on a global leve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43280" y="508464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Rouse MJ.  Quality assurance of pharmacy education:  Developing a global framework.  Int Pharm J 2007; 22(1): 9-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3213000"/>
            <a:ext cx="392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This process necessitates education in basic sciences and an understanding of basic science princip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843280" y="476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50920" y="9079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фармација – уметност спровођења рацион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4724280"/>
            <a:ext cx="41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Skau K.  Pharmacy is a science-based profession.  American J Pharm Educ 2007; 71(1):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lmirall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orti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основу претраживања литературе и изво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einstei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е коморбидитета предлажу следеће дефинициј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морбидите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comorbidit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једно или више обољења коегзистира као последица основног 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ndex diseas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бетес: ендокрино обољење, болест микроангиопатије и макриоангиопатије, неваскуларна обољења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иморбидитет, мултиморбидите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olymorbidity, multimorbidit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ство више од једног хронич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ndex dise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 дуготрајног 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бетес и хронична опструктивна болест плу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и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 постоји консензус дефинисања полифарм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тским прегледом литературе, једна од најцитиранијих дефиниција је “Употреба шест или више лекова истовремено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фармација може би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ционална полифарм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appropriate polypharmacy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писивање више лекова пацијенту са присутним коморбидитетом или полиморбидитетом, на основу медицине засноване на доказим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рационална полифарм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oblematic polypharmacy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ипрагмазија – прописивање већег броја лекова, при чему делотворност није постигнута, а оптерећење таблетам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ill burd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ушава адхеренцу и повећава употребу лекова за лечење нежелјених ефеката – прописивачка каск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Repetita iuv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Doctus cum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кала антихолинергичког риз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Anticholinergic Burden Scal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ирок спектар нежељених антимускаринских ефеката (опстипација → конфузиј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лежена бројевима 1 →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 број, виши антихолинергички ризи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упан збир 3 или више сматра се клинички значајн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ијенти старији од 65% година са укупним збиром већим од 4 имају висок ризик смртности у наредне две године (2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 смртности са сваким бодом повећава се за 2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Calibri"/>
              </a:rPr>
              <a:t>Fox C. Anticholinergic Medication Use and cognitive Impairment in the Older Population: The Medical Research Council Cognitive Function and Ageing Study. Journal of the American Geriatrics Society 2011; 59: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кала антихолинергичког риз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Anticholinergic Burden Scal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413000"/>
          <a:ext cx="8229600" cy="5190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9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оперид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ти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таз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ксе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зод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проп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еп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еин и други опио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талид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итидин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нолол и већина бета блок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 и други диуре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анта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дона алкало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оза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трипти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лоф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амазе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карбазе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тири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та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мети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пера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тиризин и неседирајући антихистами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орпер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мо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ро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пром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фенамин и већина седирајућих антихистами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триптилин и већина трицикличних антидепрес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ксетин и већина СС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пр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кси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бути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анзапин и већина атипичних антипсихо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чешћи нежељени ефекти лекова, који захтевају пријем пацијента у болн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агрегациона терапија 16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уретици 15,9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САИЛ 11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коагулантна терапија 8,3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 који се користе у терапији дијабетеса 3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о инотропни лекови 3,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 2,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епилептици 2,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oward R et al. Which drugs cause preventable admissions to hospital? A systematic review. Br J Clin Pharmacol 2006; 63:2; 136-147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крипциона каскада као резултат третма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љених ефеката ле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125360"/>
          <a:ext cx="8229600" cy="5650200"/>
        </p:xfrm>
        <a:graphic>
          <a:graphicData uri="http://schemas.openxmlformats.org/drawingml/2006/table">
            <a:tbl>
              <a:tblPr/>
              <a:tblGrid>
                <a:gridCol w="2057400"/>
                <a:gridCol w="1028880"/>
                <a:gridCol w="2057400"/>
                <a:gridCol w="1028520"/>
                <a:gridCol w="2057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ани лек за обоље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љени ефек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 за нежељени ефек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бупроф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ертенз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хипертензи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клопра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инсон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допа/карбидо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инсони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тропи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лодип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пент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росе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рофлоксац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р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ранол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пропио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омн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тазап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пез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инарна инкотинен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бутинин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лафакс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е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перид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рију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перид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јодар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ју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и бета рецеп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рес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преси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триптил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емећаји когни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пез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ти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стип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 с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и с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ре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перам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зе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утарња поспа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алапр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ша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строметорф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А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уш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, Х2 антагони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епраз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ске вредости Б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лементи Б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узрокују апстиненцијалне синдроме (нежељени ефекти) при прекиду терап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лодип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шени крвни притис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конвулз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сиозност, депресија, конвулз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прес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обоља, дрхтавица, иритабилност, знојење, нес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псих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аница, узнемиреност, 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уцинације, наузе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лоф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итација, конфузија, ноћне море, повећање спазма и риги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и бета рецеп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шење срчане фреквенце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ријског крвног притискаангиозни болови, анксиоз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тикостерои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рексија, снижење крвног притиска, хипоглике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г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питације, повишење срчане фреквен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уре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ми потколеница, налаз на плућима, повећање телесне ма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пентин (за боло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н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емећаји спавања, анксиозност, агитација, тре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, промене мобилности, анксиозност, дијаре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ви, поремећаји покретљив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ушица, поремећаји вар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глицерин трансдермал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инозни болови, повишење артеријског крвног прит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иничка испитивања код старих пациј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ка испитивања спроведена у популацији одраслих, углавном укључују пацијенте узраста од 18 до 65 година. Да је ово недовољно широк распон за већину терапијских категорија и да је горња граница исувише ниска указују следећи подац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сници клиничких испитивања требало би да буду репрезентативна група свакодневне клиничке прак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цијенти старији од 65 година чине већину која добија лекове за хронич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ји од 65 година су растући сегмент попул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у клиничких испитивања обављених на „млађим стар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younger ol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“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ајвећи потрошачи лекова су „старији стар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lder ol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“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линичким истраживањима примене лекова код старих присутни су следећи изазов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дицин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сок ризик нежељених дејстава лекова, услед фармакокинетских и фармакодинамских промена условљених старењ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еструки коморбидитет, више од половине старих имају три или више хроничних обоље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дукована очекивана дужина живота може ограничавати учешће у клиничким истраживањима која трају више год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уч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ључење из истраживања због погоршања когнитивних функц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циоеконом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штај и социјални услови могу да наруше комплијансу са протоко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тич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добијање информисане сагласности старих због њихове вулнерабилности потребно је укључити чланове породице или старао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кинетика, делотворност, безбедност и интеракције лек-лек су анализирани на основу следећих питања изведених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CH E7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а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/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индикација у оквиру постојећих смерниц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најмање 100 пацијената старијих од 65 година укључе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ротокол укључује старије од 65 годи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ротокол укључује старије од &gt; 75 годи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геријатрија представљају велики удео у клиничкој бази подата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зузеци на основу стар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зузеци на основу ко-морбидите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е разлике у вези делотвор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е разлике разлике, у односу на дозу одгов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за старосном доби условљене нежељене догађај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присутне фармакокинетске специфич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кинетика, делотворност, безбедност и интеракције лек-лек су анализирани на основу следећих питања изведених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CH E7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/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нцијална фармакокинетска истраживања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фармакокинетска истраживања високих појединачних доза,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фармакокинетска истраживања поновљених доза, млади у односу на ста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демографских факт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процена физиолошких факто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екстензивно излучивање активне супстанце преко бубрег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је екстензивно излучивање активне супстанце преко јет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описане абнормалне бубрежне функциј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су описане абнормалне функције јет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лек има узак терапијски опсе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и релевантан Цитохром П450 метаболиза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ли постоје испитивања интеракција лек-л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онављање користи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ен са књигом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потиреоидиз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утоиму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пклинички хиотиреоидизам се налази у 6-8% жена и 3% мушкара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зроци хипотиреоид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ла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кундар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утоимунски хипотиреоид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клинички хипо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хипотиреоидизам (манифестни хипотиреоидиза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е манифестације хипотиреоид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на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иреоидни хорм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ок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лцитон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гулација тиреоидне осов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реотропин (ТС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реотроф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реотроп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1-06-29T08:08:03Z</dcterms:modified>
  <cp:revision>8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